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390-40D9-422D-A872-5CF0EE3B2B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972-B19C-453F-BD6B-DFF2E971DAB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F43F-B068-4958-83AC-1007A968B3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D266-A7C2-4216-8718-AB164C82D6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BAC3-30B8-435F-8240-0545EC5B25E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0CF8-64DF-4B27-873B-29ACDB5297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A85B-22D9-4202-8F37-B85385399B4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338D-A8E6-4064-A233-C4EAE4572C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69F-C1E8-4404-93DF-DC6A9C08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F9B-3CF0-4798-A4E1-733195E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4E6-CD0D-40E0-8220-C9BEE4C9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8FD-7BA8-4ABF-9119-9BDD404E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497-0727-4409-971B-5308DBF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9CD-4EB6-4382-801D-980C8EA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680-C18B-4091-B3BC-CDD5219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586-1CF5-4A43-BDE4-58098D1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A70-0D5E-434C-BD53-52143AC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E74-0165-442C-ABB8-77964A3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C69-DDE5-4D1E-9624-A61B2E91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47A-4885-484C-B0C8-7B90EB6E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CDE-D6E9-4493-9601-2C1628862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Jenkins, Mark</cp:lastModifiedBy>
  <dcterms:modified xsi:type="dcterms:W3CDTF">2012-01-03T21:13:56Z</dcterms:modified>
  <cp:revision>17</cp:revision>
  <dc:subject/>
  <dc:title>PowerPoint Presentation</dc:title>
</cp:coreProperties>
</file>